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9391337"/>
        <c:axId val="59164011"/>
      </c:barChart>
      <c:catAx>
        <c:axId val="2939133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9164011"/>
        <c:crosses val="autoZero"/>
        <c:auto val="1"/>
        <c:lblAlgn val="ctr"/>
        <c:lblOffset val="100"/>
        <c:noMultiLvlLbl val="0"/>
      </c:catAx>
      <c:valAx>
        <c:axId val="5916401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939133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F5492-FD9B-41B5-9343-33E9E596D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6DC60-F0BD-4CE2-88E2-6C3D14D9E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19F25-BC86-44B8-9414-1A2B3E1E9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5377C-FAFC-4C77-AC62-0E3156425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8A59F-A298-4F0B-B175-EDE9244A9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E6AA7-DBA6-4CB7-88C3-DFBDCCE9D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61B58-AC02-4DAA-AF6F-74CB99F9E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29F84-8415-416F-8AAB-CE729B5BA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6E3C2-8F15-4360-A689-C5682EC1B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AEEC5-D863-428C-98D0-CEE7328D3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E84F7-CA5D-471A-AB43-ECC495736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A285E-7AD5-4086-8CD7-1D09EAC03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8A680-EEB3-41A5-A413-4929B19B7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6DD29-3A95-46E1-8CA4-AEC06837B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A7E83-FEAD-46CA-99E9-59C8F0144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75FCD-4C02-4FEA-818B-0BDC14760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DB350-5B6A-4E75-A1DF-2100557FB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29A24-2DE8-4114-8F14-87208B01A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6C309-4341-474B-B66D-51655F162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25DA9-A1C7-442E-AFCA-4ED3F16C6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29C4D-20AD-4AC0-8482-B53341D55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C89E5-BD61-466B-8D91-6D81F7337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8960-71BF-4C22-BB02-FB0232495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63B04-0B3D-4429-9CA1-031E617AC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ECCED6-C63F-4134-B393-B3F6E21BEC8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DFF3F3-0704-4EF7-9D29-F5EE9A4C211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