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8714876"/>
        <c:axId val="16194981"/>
      </c:barChart>
      <c:catAx>
        <c:axId val="6871487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6194981"/>
        <c:crosses val="autoZero"/>
        <c:auto val="1"/>
        <c:lblAlgn val="ctr"/>
        <c:lblOffset val="100"/>
        <c:noMultiLvlLbl val="0"/>
      </c:catAx>
      <c:valAx>
        <c:axId val="16194981"/>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871487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333A7-5CBC-4A16-B9C4-76DAC2847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B7744-6C57-46F8-B3E4-16E67F3BA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4B897-0644-4E66-AD6A-815C78E9C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23E94-C0C5-40AC-813E-557384629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E15E0A-D97C-4F72-BE66-67A79035C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E2D7E-DD7C-4CB1-804A-5FA93C86B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155CD-CBD8-4445-8FAA-172D83314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4E10E-283B-4731-AE66-D192C2909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A0BE6-900C-4A67-A977-8120488F7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C457D-5E84-45B1-8234-1E746839F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B545A-F55B-4B8A-95E3-02F4847DD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3DDC7-B845-4DA3-BEDA-955E9070E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41A26-38B5-4313-A399-7E3604B32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B9541-B45D-47FA-B1DA-55760224B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13BF0-5EB7-4FFB-BD9A-F14E86C40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47AF1-8B3C-44B6-849F-8C3B6EF23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919C2-C9C0-4AA4-8FFB-2140A835B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8C16C-6F8D-46F7-BE30-EE5C84308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92F85-8781-48BF-9EAC-14F0D7100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49EA3-7C5F-425D-A0BA-02D2780A4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91363-D040-4C45-AF65-CAE2D2EE4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12A95-7793-417F-802F-AAA76091F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A64C7-7E8C-4FDE-A7DB-DF551DDB5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CEDF3-8FEF-4104-B106-6FE2BA1FE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DCA6CD-7292-4196-A30D-90B255DAB25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63C90C-671F-4993-9260-4704EF8C623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