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33117826"/>
        <c:axId val="80669501"/>
      </c:barChart>
      <c:catAx>
        <c:axId val="33117826"/>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0669501"/>
        <c:crosses val="autoZero"/>
        <c:auto val="1"/>
        <c:lblAlgn val="ctr"/>
        <c:lblOffset val="100"/>
        <c:noMultiLvlLbl val="0"/>
      </c:catAx>
      <c:valAx>
        <c:axId val="80669501"/>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3117826"/>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557A3-54E1-4FCA-A81D-A46481D03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4FDEE-CEA5-493D-86F8-04775CAC9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DF61F-07EA-4614-BBD0-1AC331887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CFCC3-0E31-4BBC-8A7F-9DD744869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14EED8-7987-4B00-8927-A11024F191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9AF45-DF90-4D83-BEC2-B940C01B9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0D587-1FC3-4327-867F-CB37AA455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2869F-7152-4E31-92DB-971B33AA1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03BBC-77CD-4511-9D10-B0BB41748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7B4BB-68B6-42E5-94D1-0E3B65EAE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E976A-D614-4227-8922-F52C52307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BFACD-F309-4F15-9744-C2813D5E8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04895-2C57-4BFE-A98B-7022A4CAC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E7547-3FBC-4CDA-91B2-842174DEF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B3CEC-9735-48FA-AE58-C4565269B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16180-A6D5-4AC9-99EA-A94DA44CE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74CB8-DB36-4D30-9EDE-EB41EA1369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D148E-8277-45B9-95AB-4F07DDD00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F6FAD-D7EA-40BE-B212-EB5B439FD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21FC9-6862-4D03-BF7F-AF8636EAB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1CD9B-B8A4-4E6A-8CF4-651416EDA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94A40-3D7B-4169-8730-3A6BBFE9A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3BCD9-594A-4AAD-A74C-95DC6DE14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C1486-2CBC-4C74-BF54-5B4A76206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AACD80-7C9F-47B4-98E4-AE00F95BCC2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079EED-C658-4E39-872D-7F76A30F253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